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0504-2CDD-4DB0-8FBC-B3233A017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C52D-36CC-43F4-B015-E8D61DCF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8D15-B473-4653-8352-7A8254FBA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628D-F322-46FA-94A4-EC0B94B0A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4DFE-2AE1-47E7-A6C6-F4B2FFAA2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4945-E77C-46DF-9601-D71133AD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9E10-11A3-4216-8711-897FC774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FCDC-92C6-49D7-99F5-8F425EC0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4077-5603-4DE2-B07A-E69C667D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4C78-5C64-4795-A61C-2592B4D0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AC6F-890B-45EF-941C-7BE24700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F8F8-2AAA-4B02-BFBC-2452A1F2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C6FF-6339-479A-B601-D78DDDF3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8C03-5689-467C-9354-C535347D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4176-0B89-4DB8-984A-4545FC65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C15D-332F-422F-AF5D-3AB6A6C0D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12AE-144E-4195-9E51-29EFE62AB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A17F-AA17-4B77-9AE8-9284011A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BFAA-C431-4126-97CA-FE5BEF57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31F9-79C5-4DFF-A9AE-5DBBFBDA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F532-E700-444F-84F3-ADF20A7E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48FA-6FFD-425A-832F-CFA6E595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CCC1-DDEE-4424-865B-86C8D497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3FA8-6E99-418E-A16A-31765819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007A-14B7-4E92-B06F-D994B336412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8A55-F1BC-4EDE-BC52-D9F486735BB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croeconomic Developments: Western Balka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I Advisory Group Video Confere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cember 15, 2008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tional Monetary Fun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our them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d of a strong-growth/stable-inflation period in Western Balkan (SEE) countr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od internal balance outcomes came at the cost of rising external/financial stability risks. Crisis is now “unmasking” these risk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hindsight, past fiscal policy behavior was quite procyclical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thinking of macro outlook: work in progress, along several dimens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owth in SEE has been strong, and inflation performance satisfactory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447920" y="1676520"/>
            <a:ext cx="632448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..but internal balance came at the cost of large and growing external imbalances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447920" y="1676520"/>
            <a:ext cx="6324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... and growing risks to financial stability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8229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7696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286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 hindsight, fiscal policy stance was procyclical. Implication: Now no scope for countercyclical poli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3880" y="1752480"/>
            <a:ext cx="6477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A very different environment has shaped up over the last few months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ding partner import growth dow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t (still) V-shaped recovery in 201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mittances: downside ris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rms of trade: metals vs. energ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t no “Ukraine-style” meltdow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pital inflows smaller and more cost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t how fas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here we are in terms of macro outlook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owth: V-shaped, but rethinking seems underwa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flation: stable/re-assuring, but what role will exchange rate play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ternal imbalances: little adjustment projected, but how realistic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20:26:28Z</dcterms:created>
  <dc:creator>Tokhir Mirzoev</dc:creator>
  <dc:description/>
  <dc:language>en-US</dc:language>
  <cp:lastModifiedBy>bodinol</cp:lastModifiedBy>
  <dcterms:modified xsi:type="dcterms:W3CDTF">2008-12-19T18:44:44Z</dcterms:modified>
  <cp:revision>11</cp:revision>
  <dc:subject/>
  <dc:title>Macroeconomic Developments: Western Balk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