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7DB-4AC9-4E0A-8B88-902B505D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CEC-5A6F-4957-BD15-272D10DA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EA7-0120-4868-A328-9341A06D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E2D-1864-4DF3-9E2A-3BB46566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73F-3564-4940-959D-69CD2087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171-114F-4061-ABB7-3AA8BD1D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392-8271-47D1-89EE-542FEBE4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DED-C9F0-49D7-9C09-373B7E6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A03-22A9-487E-8587-C77BDE3A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2EA-AB8D-449D-AE2E-32036ADD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4D6-F429-48C8-95C1-86E09B7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906-84C9-4B13-A4F2-71DAD20B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846B-6799-45EB-9784-4A76EFDBF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50BC-E56F-49CB-BA28-341DC5B9A672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24280"/>
            <a:ext cx="6553080" cy="144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724280"/>
            <a:ext cx="662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 CRISIS RESPPONS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Financial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I Advisory Group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15 Dec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865E-1981-49F1-AFD6-BDDDAF330B2A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constraints of financial institutions to continue lending to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implementation of highly needed municipal infrastructur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 sustaining finance in the field of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 building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forms &amp; measures to increase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a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120 million gra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€500 million lo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bjectives and mea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6F35-9A18-4DCB-91F3-4B302E5706E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icro-credits through E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ME Loans through new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lending to increase Energy Efficiency through the EEFF (Energy Efficiency Finance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unicip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a Regional Competitivenes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trengthening cooperation between financial sector supervisors and regulators in South East Europe and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2C1E-2B89-4D5A-B0DC-111B088A25A8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aximise visibility among business, investors an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se cooperation with partner IFIs (EIB, EBRD, CEB, KfW, World Bank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OECD Investment Compact for competitiveness relat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European Central Bank and national central banks for financial sector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Key Principle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9590-B331-4AB1-B1D5-F39A34842E1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7936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Meanwhil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65B7-93E2-4F47-B841-84A221C7F57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ccelerate implementation of ongoing programmes, particularly for infrastructure invest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PF endowed already with significant resources: €8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– TA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16 million + € 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- Municipal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Kosovo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Albania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ocus on short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880" y="2882880"/>
            <a:ext cx="34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bummado</cp:lastModifiedBy>
  <dcterms:modified xsi:type="dcterms:W3CDTF">2008-12-15T12:18:35Z</dcterms:modified>
  <cp:revision>1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6793237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-584475454</vt:r8>
  </property>
</Properties>
</file>