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C99-5A84-4388-8F22-4B5CAEF1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BF2-4D13-48DD-8533-72AB8DE4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813-0640-4FCE-80A6-6FDBB4BA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C99-87F4-4927-B006-4A35697C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4EDA-43EF-4568-9776-B6D2A993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B6F5-FA84-4E7C-A3B8-E34CB55F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C0AF-6411-48FB-B2FF-1531158C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701C-50D8-455B-B411-C31109ED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E2F8-F0C4-42FC-B818-9450BB4B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9A86-0491-4A1A-8008-860F185E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0B45-F5F3-449F-B7C8-94564F79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1A7-12D2-443A-9808-8667701A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DD69-F41B-4F4A-9A1E-29E3E636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5D88-5E9F-4FFD-AD00-B160C80C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D298-847E-48EC-94AB-14FA1C26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3B1A-FCE1-4766-BC95-B72352D0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68EB-E37A-4D29-8935-870F27A8C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FC1-8A34-4B0C-8473-3A68DD04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48B-BBC9-469C-B64A-1AAC7677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33A-0587-4CDE-A3AA-515909C6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2EE-2485-4EAC-8DC8-6E4EDC65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65D-B57D-4B38-9151-4F905656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3B6-0F16-4265-B197-9DB337B6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98C-95A9-4351-83EB-7891D89C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1F55-5B93-4E76-B791-8E0A089BFE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38AC-2DEA-4A19-B32B-B81CDEF00D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croeconomic Developments: Western Balka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I Advisory Group Video Con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ember 15, 200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tional Monetary Fu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our them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d of a strong-growth/stable-inflation period in Western Balkan (SEE) countr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od internal balance outcomes came at the cost of rising external/financial stability risks. Crisis is now “unmasking” these risk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hindsight, past fiscal policy behavior was quite procyclic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thinking of macro outlook: work in progress, along several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 in SEE has been strong, and inflation performance satisfactory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..but internal balance came at the cost of large and growing external imbalances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24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.. and growing risks to financial stability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8229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696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28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hindsight, fiscal policy stance was procyclical. Implication: Now no scope for countercyclical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477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very different environment has shaped up over the last few months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ding partner import growth dow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(still) V-shaped recovery in 20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mittances: downside ris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s of trade: metals vs.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no “Ukraine-style” meltd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ital inflows smaller and more cost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how fas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ere we are in terms of macro outlook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wth: V-shaped, but rethinking seems underw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lation: stable/re-assuring, but what role will exchange rate play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imbalances: little adjustment projected, but how realistic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0:26:28Z</dcterms:created>
  <dc:creator>Tokhir Mirzoev</dc:creator>
  <dc:description/>
  <dc:language>en-US</dc:language>
  <cp:lastModifiedBy>bodinol</cp:lastModifiedBy>
  <dcterms:modified xsi:type="dcterms:W3CDTF">2008-12-19T18:44:44Z</dcterms:modified>
  <cp:revision>11</cp:revision>
  <dc:subject/>
  <dc:title>Macroeconomic Developments: Western Balk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