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150-153C-4987-9B7A-AD8432E4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9C4-1AC7-4609-B370-45AEA0A2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82E-C055-43B0-8895-ABADE5B2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D91-7DF1-4995-A818-4574F157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86FD-A189-4FC8-B4EB-E3058352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1DC1-FD44-4D79-B44E-27B95021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7250-BD6A-4464-816B-8EF05D34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C365-6866-42AD-BEA5-5261C8AE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B608-8038-439E-8549-5434D2E9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A7CB-81D3-49B3-9A45-558ADAFA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A9BE-F264-4B97-9223-4F289B16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685A-299F-41F3-A117-CF132571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D6AF-A9A6-4313-83E8-D8CFBD87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C264-3267-41AC-BE6D-7C5C090C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5AB5-5768-4334-BBBB-B9AD7D63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4DA1-A827-4A45-BEC1-BDF1A582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2860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6584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102720" y="38754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C324-F91C-4713-A5F5-6A47ED65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11C-CA35-4E38-BB39-5D4A67E5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7D9-DD3E-4D5D-B6DE-E0C695E9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41B2-08A9-4B1A-B399-002E2E60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DB2-4D36-489E-89E1-4F7C0DCA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957-A0F4-4E23-9806-0B4A0FCC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0000" y="38754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AE4-F69D-4879-AF7D-CC2464E7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754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B43-BC30-4F14-A886-5A9D7CBC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6E90-1CE3-49B8-84A3-FABA29161C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8305920" y="59436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6513-773F-4C8D-9458-7D2E62D2D3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49636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6781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FI Advisory Group meeting: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he Financial crisis – Current view and preparation for Plenary session</a:t>
            </a:r>
            <a:br>
              <a:rPr sz="36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conomic Crisis: the regional outlook and fiscal space for crisi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rnard Funck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ember 15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velopments in steel sector illustrate broader challeng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ly, steel production is being cut significantly as price of hot rolled steel coil has fallen to almost $400 per ton, from near $1200 earlier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of steel industry in exports and employment is sizeable in Macedonia (37% of exports), Serbia (25%), Montenegro and Albania (20%) and BiH (1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already being cut in Albania and Macedonia, significant decrease in production announced in Albania, BiH and Maced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edonia most severely hit: production of metals (11% share in industrial output and employment) fell by 38% y-o-y in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rkey, automotive industry is hurt badly from reduced demand (Turkey is net importer of ste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2438280"/>
          <a:ext cx="8991720" cy="27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38280"/>
                    <a:ext cx="89917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51814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fixed exchange rates in most economies, much of the burden of adjustment on fisc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04920"/>
            <a:ext cx="762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mestic responses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rtia in wage setting following rapid wage growth (real wage growth ranging from 5% per annum in BiH to 12% in Ser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xternal imbalances may correct only slowl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 improvement of CAB (as % of GDP) only expected for Monteneg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ss external financing needs (as % of GDP) are expected to increase or remain high in most econo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 over of corporate (and banking) debt in Turkey adds to uncertainty on external financing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62520" y="3621240"/>
          <a:ext cx="5181480" cy="22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621240"/>
                    <a:ext cx="51814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962520" y="1600200"/>
          <a:ext cx="5181480" cy="2131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1600200"/>
                    <a:ext cx="51814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respond to the tightening of financial markets, policy makers need to take measu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maintain prudent fiscal 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rengthen ba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untries may seek to shift funding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xist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la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rom private sources (including PPPs and lines of cred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official sources, including IF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 IBRD financing of South Africa’s power development pl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 turn to them f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de fac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bt refinan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bt performances are expected to be mixed among the SEE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333440"/>
          <a:ext cx="7467480" cy="29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33440"/>
                    <a:ext cx="74674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57200" y="3581280"/>
          <a:ext cx="7467480" cy="2925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581280"/>
                    <a:ext cx="746748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ten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nt Economic Developments in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erging vulnerabilities from the cri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look and risks for SEE and Turk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croeconomic trends improved in recent years throughout the regio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growth has been healthy: GDP grew by around 5% in 2000-06; growth peaked 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2007, all SEEs and Turkey had either reduced fiscal deficits or moved to surpluses, reflecting greater government commitment to fiscal responsibility (while decreasing tax r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2003 and 2007, public debt/GDP was cut in all countries except BiH, sometimes substantially (achieved through GDP growth, stronger policy efforts, real appreciation and prepayment of d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ing pressures have reemerged strongly in 2008 (e.g., Serbia, Macedonia, Turke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6972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ey vulnerabilities remain and new imbalances have emerge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SEE economies have one or more macroeconomic vulnerabilit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46483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4419720"/>
            <a:ext cx="8686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urrent account deficits worsened in all economies except BiH (which had high CAD) between 2003 and 2007 (1-3 percentage points in Albania, Croatia, Macedonia, Kosovo and Turkey, 9 pp in Serbia and 33 pp in Montenegr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merging vulnerabilities from the crisis and potential impac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and Turkey faced with three shocks as a result of the crisi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) global demand slowd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) drying up of external financ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ii) falling commodity pr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 remittances (Albania, BiH, Macedonia and Kosovo have substantial remittance inflow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752480"/>
            <a:ext cx="136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$ bill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2136600"/>
          <a:ext cx="7391160" cy="41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6600"/>
                    <a:ext cx="7391160" cy="41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057400" y="1600200"/>
            <a:ext cx="4724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t private debt and equity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90-2007, projected 2008-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72400" y="1752480"/>
            <a:ext cx="83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Arial"/>
              </a:rPr>
              <a:t>Per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2971800"/>
            <a:ext cx="209736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 of G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right ax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6845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rivate capital flows expected to decline furth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4087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World Ba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eteriorating external environmen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rivate credit growth has been to large extent funded by bank-led capital in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 are facing slowdown of inflows and higher interest rates (Croatia’s CDS spread up by over 400 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s of European banks dominating the region also 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809880" y="2514600"/>
          <a:ext cx="533412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514600"/>
                    <a:ext cx="53341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wnward trends are beginning to emerge in most economi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342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e9ce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ober statistics rais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ed flag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several countries, in particular Croatia, Montenegro, Maced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45720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ction and tourism sectors may also be hit hard (no data available yet plus effects there come with a time la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429000" y="1752480"/>
          <a:ext cx="5715000" cy="27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752480"/>
                    <a:ext cx="5715000" cy="27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GDP growth is projected to slow down in 2009 throughout SEE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1719360"/>
          <a:ext cx="8686800" cy="41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19360"/>
                    <a:ext cx="8686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wb296747</cp:lastModifiedBy>
  <dcterms:modified xsi:type="dcterms:W3CDTF">2008-12-15T11:47:26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05763783</vt:r8>
  </property>
  <property fmtid="{D5CDD505-2E9C-101B-9397-08002B2CF9AE}" pid="3" name="_AuthorEmail">
    <vt:lpwstr>Ollivier.Bodin@ec.europa.eu</vt:lpwstr>
  </property>
  <property fmtid="{D5CDD505-2E9C-101B-9397-08002B2CF9AE}" pid="4" name="_AuthorEmailDisplayName">
    <vt:lpwstr>BODIN Ollivier (ELARG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</Properties>
</file>