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32E-3A77-4092-8783-D5B89B79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DCA3-C4E5-45F4-9D86-34CD3A89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232-6554-487B-BD9A-B4F7646E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ACF-439E-4425-B07E-F389831C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CB8-F712-443A-B6A1-7B809D88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1F0-71FA-472A-A0B9-9AEB4609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972-C746-48A8-BE23-0EF061BF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8AEB-9882-48F2-8FCD-8F59FC20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CBE-67EF-47F0-AEA0-7252822A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F0B-544F-4DA8-8FCE-550E67A6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DCC-46A0-459C-A448-AE2A3F19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41F-43FC-4CAC-AA4F-760E31F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7EF1-165C-4FE2-AF54-4FC0C0A67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2684-CF95-4166-9846-3AACB963F575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26920" y="4724280"/>
            <a:ext cx="6553080" cy="144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724280"/>
            <a:ext cx="662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 CRISIS RESPPONSE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he Financial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I Advisory Group,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15 Dec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72CF-8355-4432-A47C-8A0907C2C0BA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99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e constraints of financial institutions to continue lending to 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 implementation of highly needed municipal infrastructure inve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ure sustaining finance in the field of energy effici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itution building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forms &amp; measures to increase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ea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€120 million grant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€500 million lo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2800"/>
            </a:b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bjectives and mea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F2EA-0690-45E4-9553-6D37DFAC2965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icro-credits through EF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1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ME Loans through new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lending to increase Energy Efficiency through the EEFF (Energy Efficiency Finance Fac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Municipal inve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a Regional Competitivenes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€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2 mill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for strengthening cooperation between financial sector supervisors and regulators in South East Europe and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Individu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CF4F-8291-45C8-A14A-2FB5678D0F3B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Maximise visibility among business, investors an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lose cooperation with partner IFIs (EIB, EBRD, CEB, KfW, World Bank Grou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OECD Investment Compact for competitiveness related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operation with European Central Bank and national central banks for financial sector and 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Key Principle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C376-9AD4-4E83-8171-8F3AF652837A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27936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Meanwhile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763120" y="6513480"/>
            <a:ext cx="380880" cy="5335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76312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AE35-22FF-46AD-BCE6-3A92414DD94A}" type="slidenum">
              <a:rPr b="1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8920" y="2322000"/>
            <a:ext cx="871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Accelerate implementation of ongoing programmes, particularly for infrastructure invest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-60948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IPF endowed already with significant resources: €87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– TA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16 million + € 1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PF - Municipal Window: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€ 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Kosovo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24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604880" indent="-53316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IPF Albania Window: 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fr-BE" sz="1800" spc="-1" strike="noStrike">
                <a:solidFill>
                  <a:srgbClr val="000099"/>
                </a:solidFill>
                <a:latin typeface="Arial"/>
              </a:rPr>
              <a:t>€7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148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323640" y="54900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The IPA Crisis Response Package</a:t>
            </a:r>
            <a:br>
              <a:rPr sz="3200"/>
            </a:b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Focus on short-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lti-Beneficiary IPA Discussion                    Brussels, 21 September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00880" y="2882880"/>
            <a:ext cx="34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8:42:32Z</dcterms:created>
  <dc:creator>Caitriona Ni Raghallaigh</dc:creator>
  <dc:description/>
  <dc:language>en-US</dc:language>
  <cp:lastModifiedBy>bummado</cp:lastModifiedBy>
  <dcterms:modified xsi:type="dcterms:W3CDTF">2008-12-15T12:18:35Z</dcterms:modified>
  <cp:revision>1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6793237</vt:r8>
  </property>
  <property fmtid="{D5CDD505-2E9C-101B-9397-08002B2CF9AE}" pid="3" name="_AuthorEmail">
    <vt:lpwstr>Domenica.BUMMA@ext.ec.europa.eu</vt:lpwstr>
  </property>
  <property fmtid="{D5CDD505-2E9C-101B-9397-08002B2CF9AE}" pid="4" name="_AuthorEmailDisplayName">
    <vt:lpwstr>BUMMA Domenica (ELARG-EXT)</vt:lpwstr>
  </property>
  <property fmtid="{D5CDD505-2E9C-101B-9397-08002B2CF9AE}" pid="5" name="_EmailSubject">
    <vt:lpwstr>Temporary Webpage IFIAG</vt:lpwstr>
  </property>
  <property fmtid="{D5CDD505-2E9C-101B-9397-08002B2CF9AE}" pid="6" name="_NewReviewCycle">
    <vt:lpwstr/>
  </property>
  <property fmtid="{D5CDD505-2E9C-101B-9397-08002B2CF9AE}" pid="7" name="_PreviousAdHocReviewCycleID">
    <vt:r8>-584475454</vt:r8>
  </property>
</Properties>
</file>