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2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3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4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ABDF-CDEF-48F0-A424-47D57099B1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B099-4946-4BED-BC0E-AC7BC5001D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E983-360F-4074-B91C-8769EF9FC8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3A2E-073A-4004-B864-78E08DB71C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6609-31A8-48B8-AA25-FDA809A6EE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A24A-000D-42BE-A5F1-FBB4B3284D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ED3D-950F-464F-B7EA-E1A47C67DF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BE8F-031C-4CD4-A89E-817B5A52FE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6AA4-76B1-4414-997B-733C315612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39F-93F3-464D-A68E-05C92FD5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690-0275-4F64-84E6-CD9D9CBE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6C5-4E2B-4C38-9F0D-BF549031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2A9F-0549-4FCD-A88E-A96FA5BC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FC06-F4F0-47F1-8EEF-A94458CF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51B9-B537-498E-81D1-3A0E4809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05DC-7CEB-4B2F-B2C8-12F9D618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DD0E-1E36-4A9A-A212-6CE11701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23D0-5047-482B-80CC-B06BEE33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FF31-6E15-4E6C-8976-6336BD3C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46B0-47C0-4FCC-A763-C1CAEDBE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7AC-CED8-47D1-BDFF-56F9BB90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232B-A569-4291-8BC3-9393187C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52EA-7E83-4FA1-90AF-DB8E6974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9402-A455-48F5-8997-F74F737C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5E0A-9249-4BC0-A032-DD1050B6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340B-0C52-4C6E-AD7C-2FE9CD04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F3961-83CF-4840-BDD8-A6F4989A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91856-D1F9-4563-A4AB-03A10872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D21CE-C4D3-41D6-9910-B93C9999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F2358-1EA4-4404-8D63-032296B6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991EE-68D5-4ECC-9EFA-16F010C9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BDB8-0FD1-4072-80A4-0FE7EEF3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1EB5F-7BEF-4FAD-A23E-F7A87BDA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86FCA-AB64-4572-B28A-F84F899B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B7733-3A55-4210-8141-35BA1519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C90D1-ADFF-45CF-850B-A68B22FD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6B9E0-6B19-4D95-85AE-04D3AA09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3F503-A3A2-4E90-90C0-510FA127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11979-BC08-4919-B060-CF951047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2763FF-58B8-4CA0-AE4E-ED41BDBDB0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E7E97A-A331-4841-B0DF-5D967536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2FE677-CE73-4E81-AD32-37D9C5B5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131-3B93-45FB-A183-921E5A76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148766-C2E7-449B-AB20-0CEE2DF7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466331-79AB-4E5F-A832-9F54958F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7EA5E9-86FD-4702-8C64-9A1F1767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E11920-2A3D-4584-AFAD-FD8CE551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6BF5DE-53E3-4E37-A975-0CC5AE0D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4C21D5-275D-4968-A34E-01C79AEE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F97EA7-83F8-4D41-BAF6-4F306CDD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093BA0-AF1A-4236-9CEA-7220DCE8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5D292-9FDF-4CBA-8AB0-7F46D90C21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DE7-3837-48C1-A2A3-A2D0D98F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D26C-4CC4-4EF3-B4CC-B5084365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92DE-756C-4B59-A591-CB868666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7D66-28D3-4A3F-8305-115CD4E8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071-ED7F-43E0-B740-12D5E059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14A5-DD39-4598-920A-EA83650A41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7640" cy="14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4233960" y="6445080"/>
            <a:ext cx="676080" cy="45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AB5B-278B-4D18-9E61-20E2EC6B8AB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lupasst\Desktop\Graphics\Footer Box NEAR2.jpg"/>
          <p:cNvPicPr/>
          <p:nvPr/>
        </p:nvPicPr>
        <p:blipFill>
          <a:blip r:embed="rId4"/>
          <a:stretch/>
        </p:blipFill>
        <p:spPr>
          <a:xfrm>
            <a:off x="4233960" y="6437160"/>
            <a:ext cx="630000" cy="42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5"/>
          <a:stretch/>
        </p:blipFill>
        <p:spPr>
          <a:xfrm>
            <a:off x="4229280" y="6416640"/>
            <a:ext cx="67608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C9BD-B5FB-45C4-8A6A-5F62CD8FD3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3673440" cy="561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516360" y="475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468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6E3F-438F-4A98-9C2D-F708480C91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neighbourhood/eastern-partnership/index_en.htm" TargetMode="External"/><Relationship Id="rId2" Type="http://schemas.openxmlformats.org/officeDocument/2006/relationships/hyperlink" Target="http://www.enpi-info.eu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1640" y="436572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EU cooperation with the Eastern Neighbourhood</a:t>
            </a:r>
            <a:br>
              <a:rPr sz="4000"/>
            </a:br>
            <a:br>
              <a:rPr sz="4000"/>
            </a:b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Mathieu Bousquet, NEAR.C2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027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18960" y="1087560"/>
            <a:ext cx="850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353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cc3300"/>
                </a:solidFill>
                <a:latin typeface="Verdana"/>
              </a:rPr>
              <a:t>Thank you for your attention! </a:t>
            </a:r>
            <a:br>
              <a:rPr sz="26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24000" y="2538360"/>
            <a:ext cx="842616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r more information 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DG NEAR websit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(Eastern Partnership and country pages): </a:t>
            </a:r>
            <a:br>
              <a:rPr sz="1600"/>
            </a:b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1"/>
              </a:rPr>
              <a:t>ec.europa.eu/enlargement/neighbourhood/eastern-partnership/index_en.htm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EU Neighbourhood</a:t>
            </a:r>
            <a:r>
              <a:rPr b="1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 Info Centre</a:t>
            </a:r>
            <a:r>
              <a:rPr b="0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2"/>
              </a:rPr>
              <a:t>www.enpi-info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llow us: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Facebook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EU Neighbourhood &amp; Enlargement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Twitter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@eu_near </a:t>
            </a:r>
            <a:br>
              <a:rPr sz="1600"/>
            </a:b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cc3300"/>
                </a:solidFill>
                <a:latin typeface="Verdana"/>
                <a:ea typeface="Arial"/>
              </a:rPr>
              <a:t>	</a:t>
            </a:r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422280" y="-2338560"/>
            <a:ext cx="4876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8" descr="http://www.shinsuzuma.com/assets/facebook_icon.jpg"/>
          <p:cNvPicPr/>
          <p:nvPr/>
        </p:nvPicPr>
        <p:blipFill>
          <a:blip r:embed="rId3"/>
          <a:stretch/>
        </p:blipFill>
        <p:spPr>
          <a:xfrm>
            <a:off x="719280" y="501660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http://www.mariosbowl.com/images/TBD5PBA/Twitter-symbol.jpg"/>
          <p:cNvPicPr/>
          <p:nvPr/>
        </p:nvPicPr>
        <p:blipFill>
          <a:blip r:embed="rId4"/>
          <a:stretch/>
        </p:blipFill>
        <p:spPr>
          <a:xfrm>
            <a:off x="719280" y="533412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473040" y="1538280"/>
            <a:ext cx="791532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What is it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olicy launched in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04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?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countries (10 in the South, 6 in the East without Russia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Aim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 prosperity, stability, security and good neighbourhood, avoid new diving lines in Europe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P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eview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ongoing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3300"/>
                </a:solidFill>
                <a:latin typeface="Verdana"/>
              </a:rPr>
              <a:t>European Neighbourhood Policy (ENP)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68360" y="2349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hat is it? </a:t>
            </a: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Eastern dimension of the EN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Joint policy launched in 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2009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to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bring Eastern neighbours closer to the EU. Based on: common interests and shared values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For whom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? 6 countries: Armenia, Azerbaijan, Belarus, Georgia, Moldova, Ukraine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Main goals - EaP is about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: 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closer relation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political associ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more trade, business, job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economic integ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people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mobility, contacts between people, civil society 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reforms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sector coope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astern Partnership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395280" y="2565360"/>
            <a:ext cx="8229600" cy="35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H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ow is it financed?</a:t>
            </a:r>
            <a:br>
              <a:rPr sz="32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2707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European Neighbourhood Instrument (ENI) - Key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inancial instrument for ENP and EaP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Where: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ENP countries</a:t>
            </a: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no more bilateral cooperation with Russia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Budget:</a:t>
            </a:r>
            <a:r>
              <a:rPr b="1" lang="pl-PL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0f5494"/>
                </a:solidFill>
                <a:latin typeface="Verdana"/>
              </a:rPr>
              <a:t>EU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15.4</a:t>
            </a:r>
            <a:r>
              <a:rPr b="1" lang="pl-PL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bill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14</a:t>
            </a:r>
            <a:r>
              <a:rPr b="1" lang="pl-PL" sz="18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20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total figur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: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inl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artner governments and civil society organisations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inal beneficiaries =&gt;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citizen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f partner countries !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assistance: How it works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95280" y="2421000"/>
            <a:ext cx="82296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ENI assistance is provided fo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3 types of cooperation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275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Bilateral cooperation programm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Largest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part of ENI fund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Focused on 3 priority sector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+ complementary support for implementation of agreements and civil societ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Differentiation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Tailor-made for each country according to needs, situation, ambition, progres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Regional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Initiatives demanding regional approach, challenges across borders, e.g. transport, energy, environment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Cross border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Content Placeholder 4" descr=""/>
          <p:cNvPicPr/>
          <p:nvPr/>
        </p:nvPicPr>
        <p:blipFill>
          <a:blip r:embed="rId1"/>
          <a:stretch/>
        </p:blipFill>
        <p:spPr>
          <a:xfrm>
            <a:off x="341280" y="2133720"/>
            <a:ext cx="8332920" cy="1944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East - Priority sectors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Content Placeholder 4" descr=""/>
          <p:cNvPicPr/>
          <p:nvPr/>
        </p:nvPicPr>
        <p:blipFill>
          <a:blip r:embed="rId2"/>
          <a:stretch/>
        </p:blipFill>
        <p:spPr>
          <a:xfrm>
            <a:off x="341280" y="4200480"/>
            <a:ext cx="8332920" cy="1693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2"/>
          <p:cNvSpPr/>
          <p:nvPr/>
        </p:nvSpPr>
        <p:spPr>
          <a:xfrm>
            <a:off x="426960" y="6021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+ complementary support: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to support implementation of agreements and civil society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68000" y="2637000"/>
            <a:ext cx="8147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Regional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: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address common challeng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and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promote regional cooperation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on themes which cannot be sufficiently addressed by countries individually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mplementarity with bilateral programm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– avoid overlap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3 Pri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Support the political association proces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ntribute to economic integration and sector cooper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Enhance civil society’s role as a vector for refor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6 Flagship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initiativ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68360" y="1413000"/>
            <a:ext cx="79912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Regional Programmes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</a:rPr>
              <a:t>6 Flagship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8" name="Content Placeholder 4" descr=""/>
          <p:cNvPicPr/>
          <p:nvPr/>
        </p:nvPicPr>
        <p:blipFill>
          <a:blip r:embed="rId1"/>
          <a:stretch/>
        </p:blipFill>
        <p:spPr>
          <a:xfrm>
            <a:off x="444600" y="2639880"/>
            <a:ext cx="5352840" cy="345600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77BC-696A-4C0A-901A-69D4AB8EB0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0" name="Rounded Rectangle 6"/>
          <p:cNvSpPr/>
          <p:nvPr/>
        </p:nvSpPr>
        <p:spPr>
          <a:xfrm>
            <a:off x="6443640" y="2924280"/>
            <a:ext cx="1152720" cy="23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2376360"/>
              <a:gd name="textAreaBottom" fmla="*/ 2320200 h 2376360"/>
            </a:gdLst>
            <a:ahLst/>
            <a:rect l="textAreaLeft" t="textAreaTop" r="textAreaRight" b="textAreaBottom"/>
            <a:pathLst>
              <a:path w="21600" h="44522">
                <a:moveTo>
                  <a:pt x="3600" y="0"/>
                </a:moveTo>
                <a:arcTo wR="3600" hR="3600" stAng="16200000" swAng="-5400000"/>
                <a:lnTo>
                  <a:pt x="0" y="40922"/>
                </a:lnTo>
                <a:arcTo wR="3600" hR="3600" stAng="10800000" swAng="-5400000"/>
                <a:lnTo>
                  <a:pt x="18000" y="44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651640" y="2781360"/>
            <a:ext cx="26654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ransport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Governance and rule of law Youth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Information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erritorial cooper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ivil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ulture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ommunic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5086440" y="1628640"/>
            <a:ext cx="381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  <a:ea typeface="Arial"/>
              </a:rPr>
              <a:t>Other EaP Programmes</a:t>
            </a:r>
            <a:r>
              <a:rPr b="1" lang="en-GB" sz="2800" spc="-1" strike="noStrike">
                <a:solidFill>
                  <a:srgbClr val="7575d1"/>
                </a:solidFill>
                <a:latin typeface="Verdana"/>
                <a:ea typeface="Arial"/>
              </a:rPr>
              <a:t>: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TUCCIONE Lucia (DEVCO)</cp:lastModifiedBy>
  <cp:lastPrinted>2015-02-11T15:25:35Z</cp:lastPrinted>
  <dcterms:modified xsi:type="dcterms:W3CDTF">2015-10-14T10:49:06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