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jpeg" ContentType="image/jpeg"/>
  <Override PartName="/ppt/media/image21.png" ContentType="image/png"/>
  <Override PartName="/ppt/media/image18.jpeg" ContentType="image/jpeg"/>
  <Override PartName="/ppt/media/image15.png" ContentType="image/png"/>
  <Override PartName="/ppt/media/image17.jpeg" ContentType="image/jpeg"/>
  <Override PartName="/ppt/media/image16.jpeg" ContentType="image/jpeg"/>
  <Override PartName="/ppt/media/image27.jpeg" ContentType="image/jpeg"/>
  <Override PartName="/ppt/media/image6.jpeg" ContentType="image/jpeg"/>
  <Override PartName="/ppt/media/image29.jpeg" ContentType="image/jpeg"/>
  <Override PartName="/ppt/media/image8.jpeg" ContentType="image/jpeg"/>
  <Override PartName="/ppt/media/image10.png" ContentType="image/png"/>
  <Override PartName="/ppt/media/image35.jpeg" ContentType="image/jpeg"/>
  <Override PartName="/ppt/media/image20.jpeg" ContentType="image/jpeg"/>
  <Override PartName="/ppt/media/image12.png" ContentType="image/png"/>
  <Override PartName="/ppt/media/image30.jpeg" ContentType="image/jpeg"/>
  <Override PartName="/ppt/media/image3.jpeg" ContentType="image/jpeg"/>
  <Override PartName="/ppt/media/image24.jpeg" ContentType="image/jpeg"/>
  <Override PartName="/ppt/media/image31.png" ContentType="image/png"/>
  <Override PartName="/ppt/media/image33.png" ContentType="image/png"/>
  <Override PartName="/ppt/media/image34.png" ContentType="image/png"/>
  <Override PartName="/ppt/media/image36.jpeg" ContentType="image/jpeg"/>
  <Override PartName="/ppt/media/image19.jpeg" ContentType="image/jpeg"/>
  <Override PartName="/ppt/media/image9.jpeg" ContentType="image/jpeg"/>
  <Override PartName="/ppt/media/image11.png" ContentType="image/png"/>
  <Override PartName="/ppt/media/image28.jpeg" ContentType="image/jpeg"/>
  <Override PartName="/ppt/media/image13.png" ContentType="image/png"/>
  <Override PartName="/ppt/media/image5.jpeg" ContentType="image/jpeg"/>
  <Override PartName="/ppt/media/image26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png" ContentType="image/png"/>
  <Override PartName="/ppt/media/image7.jpeg" ContentType="image/jpeg"/>
  <Override PartName="/ppt/media/image1.wmf" ContentType="image/x-wmf"/>
  <Override PartName="/ppt/media/image1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90800" cy="4968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6760" y="0"/>
            <a:ext cx="2890800" cy="4968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2480" y="744120"/>
            <a:ext cx="4965840" cy="3724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720" rIns="9072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86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31280"/>
            <a:ext cx="2890800" cy="4953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6760" y="9431280"/>
            <a:ext cx="2890800" cy="4953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8D884-B070-44CF-93AA-C330D25FB3B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3776760" y="9431280"/>
            <a:ext cx="2890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58422-FA62-43E7-8200-6AE26D9BAAD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8EB9B-1C93-4586-B8B2-FCD9973EE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1C9B3-9314-46BC-9A96-002401AA7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0A0C1-0B9F-4729-9770-4BED06C74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EDF72-85CB-473E-8E0E-058E5860F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906F1-396C-44DD-856A-ED62ECB3E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77523-4AA7-4DD7-926B-280020EB1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7C876-91F8-4B85-B584-758C84CA6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CBF15-2D97-41FC-AA6A-B36357F76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0B7F5-BB96-4045-A716-25527FBD5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FE0BB-C788-44BD-A476-DC3FC09B6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F715B-6C4D-4300-B234-19A42C0E9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566F1-FFE8-4808-AF45-2808F19D0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3"/>
          <p:cNvSpPr/>
          <p:nvPr/>
        </p:nvSpPr>
        <p:spPr>
          <a:xfrm>
            <a:off x="0" y="0"/>
            <a:ext cx="9144000" cy="98892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5" descr="LOGO CE-EN-NEG-quadri.ai"/>
          <p:cNvPicPr/>
          <p:nvPr/>
        </p:nvPicPr>
        <p:blipFill>
          <a:blip r:embed="rId2"/>
          <a:stretch/>
        </p:blipFill>
        <p:spPr>
          <a:xfrm>
            <a:off x="0" y="0"/>
            <a:ext cx="1511280" cy="1511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>
          <a:xfrm>
            <a:off x="456840" y="6381720"/>
            <a:ext cx="213372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Brussels, 14 June 20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>
          <a:xfrm>
            <a:off x="6516360" y="6381720"/>
            <a:ext cx="2133720" cy="3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961A9-5C71-41BB-91A2-0597A60C146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google.de/imgres?imgurl=https://www.fotocent.de/imgp/c6c3295a274583eaabd43ac7f64e1c83.jpg&amp;imgrefurl=http://www.fotocent.de/foto_detail.php%3FStockImageID%3D75128%26foto%3DJunge%2520Frau%2520sieht%2520mit%2520Fernglas%2520in%2520die%2520Zukunft&amp;usg=__P8vekZxgaIbHB8g_zOEWlVe3eSY=&amp;h=1400&amp;w=934&amp;sz=370&amp;hl=de&amp;start=10&amp;zoom=1&amp;tbnid=1cOq6XSe0ofYMM:&amp;tbnh=150&amp;tbnw=100&amp;ei=fQk9T6qhF4TPhAedhL3DBQ&amp;prev=/search%3Fq%3Dfernglas%2Bausblick%26um%3D1%26hl%3Dde%26sa%3DN%26gbv%3D2%26tbs%3Disz:l%26tbm%3Disch&amp;um=1&amp;itbs=1" TargetMode="External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google.de/imgres?imgurl=http://amadeusbuergel.de/bilder/Wiese2_1024.jpg&amp;imgrefurl=http://amadeusbuergel.de/bilder/index.php%3Frubrik%3Dwelt_gruen&amp;usg=__QJiJsz6zEMx4wuUyztZb-Mt-5rA=&amp;h=768&amp;w=1024&amp;sz=392&amp;hl=de&amp;start=4&amp;zoom=1&amp;tbnid=TYKpHfIWEh8FlM:&amp;tbnh=113&amp;tbnw=150&amp;ei=6Qk9T-y1D8qAhQf13oS6BQ&amp;prev=/search%3Fq%3Dgruene%2Bwiese%26um%3D1%26hl%3Dde%26sa%3DN%26gbv%3D2%26tbs%3Disz:l%26tbm%3Disch&amp;um=1&amp;itbs=1" TargetMode="External"/><Relationship Id="rId2" Type="http://schemas.openxmlformats.org/officeDocument/2006/relationships/image" Target="../media/image17.jpeg"/><Relationship Id="rId3" Type="http://schemas.openxmlformats.org/officeDocument/2006/relationships/hyperlink" Target="http://www.google.de/imgres?imgurl=http://www.fotos.sc/img2/u/gartenfee/h/bau_haus_hausbau_bauland_dach_fenster_rohbau_copy.jpg&amp;imgrefurl=http://www.fotos.sc/PHPSESSID%3D576d2c990c7927fdf20bdc46981f943a/popi%2B974373/mediafile.html&amp;usg=__uoqVjCUnToHZJEXl_0yqeWiShIQ=&amp;h=1125&amp;w=1500&amp;sz=987&amp;hl=de&amp;start=18&amp;zoom=1&amp;tbnid=HWory08NJERc6M:&amp;tbnh=113&amp;tbnw=150&amp;ei=-wk9T5zmIoWZhQf827nnBQ&amp;prev=/search%3Fq%3Dhaus%2Bim%2Bbau%26um%3D1%26hl%3Dde%26sa%3DN%26gbv%3D2%26tbs%3Disz:l%26tbm%3Disch&amp;um=1&amp;itbs=1" TargetMode="External"/><Relationship Id="rId4" Type="http://schemas.openxmlformats.org/officeDocument/2006/relationships/image" Target="../media/image18.jpeg"/><Relationship Id="rId5" Type="http://schemas.openxmlformats.org/officeDocument/2006/relationships/hyperlink" Target="http://www.google.de/imgres?imgurl=http://static.panoramio.com/photos/original/38844576.jpg&amp;imgrefurl=http://www.panoramio.com/photo/38844576&amp;usg=__O-wUsMwMBmGErR1w9kBfHRIZoq0=&amp;h=1874&amp;w=2500&amp;sz=2783&amp;hl=de&amp;start=32&amp;zoom=1&amp;tbnid=0BZZ5cqjOlF4AM:&amp;tbnh=112&amp;tbnw=150&amp;ei=Vgo9T6ixGJOxhAft36nuBQ&amp;prev=/search%3Fq%3Druine%2Brenovieren%26start%3D21%26um%3D1%26hl%3Dde%26sa%3DN%26gbv%3D2%26tbs%3Disz:l%26tbm%3Disch&amp;um=1&amp;itbs=1" TargetMode="External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google.de/imgres?imgurl=http://www.st-josef-heudorf.de/template/dir_images/Organigramm/Organigramm_2.jpg&amp;imgrefurl=http://www.st-josef-heudorf.de/index.php%3Fpid%3D116%26loc%3Dde&amp;usg=__7ezEapG-RY3lRVkEFAjkIMFsFXo=&amp;h=697&amp;w=1186&amp;sz=146&amp;hl=de&amp;start=2&amp;zoom=1&amp;tbnid=xuU6e9p1HGM7iM:&amp;tbnh=88&amp;tbnw=150&amp;ei=MQw9T5GYIIiJhQe0lZnUBQ&amp;prev=/search%3Fq%3Dorganigramm%26um%3D1%26hl%3Dde%26gbv%3D2%26tbs%3Disz:l%26tbm%3Disch&amp;um=1&amp;itbs=1" TargetMode="External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google.de/imgres?imgurl=http://jonmell.co.uk/wp-content/uploads/2008/12/find-people.jpg&amp;imgrefurl=http://jonmell.co.uk/find-people-you-need/&amp;usg=__4VWeJkMKiCryToe6mezUoItu-jM=&amp;h=1200&amp;w=1600&amp;sz=607&amp;hl=de&amp;start=6&amp;zoom=1&amp;tbnid=G5NkH-eqcWLoRM:&amp;tbnh=113&amp;tbnw=150&amp;ei=GAw9T8S8NIi2hQep_Ny8BQ&amp;prev=/search%3Fq%3Dthe%2Bpeople%26um%3D1%26hl%3Dde%26gbv%3D2%26tbs%3Disz:l%26tbm%3Disch&amp;um=1&amp;itbs=1" TargetMode="External"/><Relationship Id="rId2" Type="http://schemas.openxmlformats.org/officeDocument/2006/relationships/image" Target="../media/image22.jpe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google.de/imgres?imgurl=http://www.liechtenecker.at/wp-content/themes/uploads/kommunikation.png&amp;imgrefurl=http://liechtenecker.at/corporate-blog-und-integrierte-kommunikation/&amp;usg=__xpCRT4QAVKenYJNdEwabQUgRA5k=&amp;h=305&amp;w=460&amp;sz=68&amp;hl=de&amp;start=13&amp;zoom=1&amp;tbnid=57pQwACpiGc-tM:&amp;tbnh=85&amp;tbnw=128&amp;ei=VQ89T9qsKcSXhQeo_aC1BQ&amp;prev=/search%3Fq%3Dkommunikation%26um%3D1%26hl%3Dde%26gbv%3D2%26tbas%3D0%26tbm%3Disch&amp;um=1&amp;itbs=1" TargetMode="External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google.de/imgres?imgurl=http://www.zef.de/fileadmin/webfiles/downloads/conferences/photos_ws_teeb_09/IMG_0568_working_group.jpg&amp;imgrefurl=http://www.zef.de/1462.html&amp;usg=__SVLs2T1juvh2jchtkHB25LWUJPo=&amp;h=2448&amp;w=3264&amp;sz=3979&amp;hl=de&amp;start=2&amp;zoom=1&amp;tbnid=t2eSqD4s6avzSM:&amp;tbnh=113&amp;tbnw=150&amp;ei=jxw9T7XRKsqa-wakhOXnBQ&amp;prev=/search%3Fq%3Dworking%2Bgroup%26hl%3Dde%26sa%3DX%26gbv%3D2%26tbs%3Disz:l%26tbm%3Disch&amp;itbs=1" TargetMode="External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google.de/imgres?imgurl=http://www.finishlinecatering.com/yahoo_site_admin/assets/images/meeting.139202626.JPG&amp;imgrefurl=http://www.finishlinecatering.com/meeting_services&amp;usg=__GS_b9FXz0chloZZ1RrJ9xuPJ350=&amp;h=1024&amp;w=1024&amp;sz=60&amp;hl=de&amp;start=4&amp;zoom=1&amp;tbnid=0Kllp46fNB0OjM:&amp;tbnh=150&amp;tbnw=150&amp;ei=fRU9T9_1HoGA-wa1_fDxBQ&amp;prev=/search%3Fq%3Dmeeting%26hl%3Dde%26sa%3DX%26gbv%3D2%26tbs%3Disz:l%26tbm%3Disch&amp;itbs=1" TargetMode="External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google.de/imgres?imgurl=http://arrowheadaddict.com/files/2011/04/checklist.jpg&amp;imgrefurl=http://arrowheadaddict.com/2011/04/19/the-hopeful-fans-pre-draft-checklist/&amp;usg=__ssRcsxQ3KripU_Fty4GPxDdaGkg=&amp;h=1200&amp;w=1600&amp;sz=623&amp;hl=de&amp;start=1&amp;zoom=1&amp;tbnid=lEzca-wa3-x60M:&amp;tbnh=113&amp;tbnw=150&amp;ei=Lh09T8zuG4ah-Qa7wsTRBQ&amp;prev=/search%3Fq%3Dcheck%2Blist%26hl%3Dde%26sa%3DN%26gbv%3D2%26tbs%3Disz:l%26tbm%3Disch&amp;itbs=1" TargetMode="External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google.de/imgres?imgurl=http://www.grundstueckszertifizierung.de/images/uploads/WasserfallWarnschild_Rainer-Sturm_pixeliode.jpg&amp;imgrefurl=http://www.grundstueckszertifizierung.de/blog/eintrag/luenener-quartierbeiraete-in-startposition-kontrollbeirat-gewaehlt/&amp;usg=__9OHFYOoUI9IRuIYaAALZk__MNgw=&amp;h=2616&amp;w=3488&amp;sz=972&amp;hl=de&amp;start=7&amp;zoom=1&amp;tbnid=xHkMcn63wzl0hM:&amp;tbnh=113&amp;tbnw=150&amp;ei=4R49T_HFO8S6-Ab9seTPBQ&amp;prev=/search%3Fq%3Dausrutschen%26hl%3Dde%26gbv%3D2%26tbas%3D0%26tbs%3Disz:l%26tbm%3Disch&amp;itbs=1" TargetMode="External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google.de/imgres?imgurl=http://static.panoramio.com/photos/original/36163345.jpg&amp;imgrefurl=http://www.panoramio.com/photo/36163345&amp;usg=__l1okVLzRWz7geSeON0YVDVJDVDc=&amp;h=2976&amp;w=3968&amp;sz=4328&amp;hl=de&amp;start=18&amp;zoom=1&amp;tbnid=I4r64zMuHYP2xM:&amp;tbnh=113&amp;tbnw=150&amp;ei=mB89T-GFOoqg-wbpnrHGBQ&amp;prev=/search%3Fq%3Dbridge%2Bistanbul%26hl%3Dde%26sa%3DX%26gbv%3D2%26tbas%3D0%26tbs%3Disz:l%26tbm%3Disch&amp;itbs=1" TargetMode="External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google.de/imgres?imgurl=http://www.tiptoptens.com/wp-content/uploads/2011/02/Useless-and-Funny-Signs-4.jpg&amp;imgrefurl=http://www.tiptoptens.com/2011/02/25/10-completely-useless-funny-signs/&amp;usg=__7IZtRHpjmDHwoZ9mubM_qgjE_N4=&amp;h=869&amp;w=620&amp;sz=84&amp;hl=de&amp;start=64&amp;zoom=1&amp;tbnid=NhCFad95D85izM:&amp;tbnh=145&amp;tbnw=103&amp;ei=pyQ9T96QCMmS-watgpzWBQ&amp;prev=/search%3Fq%3Duseless%26start%3D63%26hl%3Dde%26sa%3DN%26gbv%3D2%26tbas%3D0%26tbm%3Disch&amp;itbs=1" TargetMode="External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ec.europa.eu/enlargement/taiex/experts/edb/registration-request_en.htm" TargetMode="External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ec.europa.eu/enlargement/taiex/experts/edb/registration-request_en.htm" TargetMode="External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google.de/imgres?imgurl=http://us.123rf.com/400wm/400/400/iko/iko1111/iko111100002/11130905-frau-zeigt-eine-leere-durchscheinendes-papier-mit-einem-fragezeichen-vor-ihr-gesicht.jpg&amp;imgrefurl=http://de.123rf.com/photo_11130905_frau-zeigt-eine-leere-durchscheinendes-papier-mit-einem-fragezeichen-vor-ihr-gesicht.html&amp;usg=__R6QhWLSpbbaCaMoYI2lWeYTNyYs=&amp;h=400&amp;w=400&amp;sz=17&amp;hl=fr&amp;start=21&amp;zoom=1&amp;tbnid=qINuJmoyl7w6KM:&amp;tbnh=124&amp;tbnw=124&amp;ei=Tto8T4kGg-k5n-6dwQo&amp;prev=/search%3Fq%3Dfragezeichen%2Bim%2Bgesicht%26hl%3Dfr%26gbv%3D2%26tbm%3Disch&amp;itbs=1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google.de/imgres?imgurl=http://img.fotowelt.chip.de/imgserver/communityimages/823400/823457/original_13A609EAFA6046BE22C59671FC2C5938.jpg&amp;imgrefurl=http://fotowelt.chip.de/k/wettbewerb/rot/roter_teppich/823457/&amp;usg=__7ttrfTqTZM011FmaWumfvzgwTd8=&amp;h=2874&amp;w=4621&amp;sz=5394&amp;hl=de&amp;start=28&amp;zoom=1&amp;tbnid=lbOstOTh-DUk0M:&amp;tbnh=93&amp;tbnw=150&amp;ei=-t48T5TQEc6VOtD8-MAK&amp;prev=/search%3Fq%3Droter%2Bteppich%26start%3D21%26hl%3Dde%26sa%3DN%26gbv%3D2%26tbs%3Disz:l%26tbm%3Disch&amp;itbs=1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massively.com/category/where-am-i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5640" y="1412640"/>
            <a:ext cx="77724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500" spc="-1" strike="noStrike">
                <a:solidFill>
                  <a:srgbClr val="333399"/>
                </a:solidFill>
                <a:latin typeface="Arial"/>
              </a:rPr>
              <a:t>Feedback by a former </a:t>
            </a:r>
            <a:br>
              <a:rPr sz="3500"/>
            </a:br>
            <a:r>
              <a:rPr b="1" lang="en-GB" sz="3500" spc="-1" strike="noStrike">
                <a:solidFill>
                  <a:srgbClr val="333399"/>
                </a:solidFill>
                <a:latin typeface="Arial"/>
              </a:rPr>
              <a:t>Resident Twinning Adviser </a:t>
            </a:r>
            <a:br>
              <a:rPr sz="3500"/>
            </a:b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Lessons learned and recommendations  </a:t>
            </a:r>
            <a:br>
              <a:rPr sz="3200"/>
            </a:br>
            <a:br>
              <a:rPr sz="3200"/>
            </a:br>
            <a:r>
              <a:rPr b="1" lang="en-GB" sz="1500" spc="-1" strike="noStrike">
                <a:solidFill>
                  <a:srgbClr val="333399"/>
                </a:solidFill>
                <a:latin typeface="Arial"/>
              </a:rPr>
              <a:t>Brussels, 15 October 2015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87280" y="3573000"/>
            <a:ext cx="6400800" cy="158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99"/>
                </a:solidFill>
                <a:latin typeface="Arial"/>
              </a:rPr>
              <a:t>Dieter Goert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4683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Your environ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4"/>
          <p:cNvSpPr/>
          <p:nvPr/>
        </p:nvSpPr>
        <p:spPr>
          <a:xfrm>
            <a:off x="395280" y="1484280"/>
            <a:ext cx="7643880" cy="459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Rel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Internat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EU 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</a:rPr>
              <a:t>(SAA, Accession negotiations, benchmarks, progress reports, IPA program, Association agreements, country strategies, support program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EU Member States and your count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Neighbo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5" descr=""/>
          <p:cNvPicPr/>
          <p:nvPr/>
        </p:nvPicPr>
        <p:blipFill>
          <a:blip r:embed="rId1"/>
          <a:stretch/>
        </p:blipFill>
        <p:spPr>
          <a:xfrm>
            <a:off x="6300720" y="1496880"/>
            <a:ext cx="2325600" cy="130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3"/>
          <p:cNvSpPr/>
          <p:nvPr/>
        </p:nvSpPr>
        <p:spPr>
          <a:xfrm>
            <a:off x="4683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Your environ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4"/>
          <p:cNvSpPr/>
          <p:nvPr/>
        </p:nvSpPr>
        <p:spPr>
          <a:xfrm>
            <a:off x="468360" y="1413000"/>
            <a:ext cx="7643880" cy="459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spcBef>
                <a:spcPts val="300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EU projects </a:t>
            </a:r>
            <a:r>
              <a:rPr b="0" lang="en-GB" sz="1200" spc="-1" strike="noStrike">
                <a:solidFill>
                  <a:srgbClr val="333399"/>
                </a:solidFill>
                <a:latin typeface="Arial"/>
              </a:rPr>
              <a:t>(previous, current, fu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300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Other projects </a:t>
            </a:r>
            <a:r>
              <a:rPr b="0" lang="en-GB" sz="1200" spc="-1" strike="noStrike">
                <a:solidFill>
                  <a:srgbClr val="333399"/>
                </a:solidFill>
                <a:latin typeface="Arial"/>
              </a:rPr>
              <a:t>(bilateral cooperation, world bank, UNDP etc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7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TAI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7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SIG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7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Resident expe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7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2" descr=""/>
          <p:cNvPicPr/>
          <p:nvPr/>
        </p:nvPicPr>
        <p:blipFill>
          <a:blip r:embed="rId1"/>
          <a:stretch/>
        </p:blipFill>
        <p:spPr>
          <a:xfrm>
            <a:off x="5567400" y="2735280"/>
            <a:ext cx="2544840" cy="2143080"/>
          </a:xfrm>
          <a:prstGeom prst="rect">
            <a:avLst/>
          </a:prstGeom>
          <a:ln w="0">
            <a:noFill/>
          </a:ln>
        </p:spPr>
      </p:pic>
      <p:sp>
        <p:nvSpPr>
          <p:cNvPr id="95" name="TextBox 1"/>
          <p:cNvSpPr/>
          <p:nvPr/>
        </p:nvSpPr>
        <p:spPr>
          <a:xfrm>
            <a:off x="5522760" y="4878360"/>
            <a:ext cx="3210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8000"/>
                </a:solidFill>
                <a:latin typeface="Arial"/>
              </a:rPr>
              <a:t>complementarity sy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8000"/>
                </a:solidFill>
                <a:latin typeface="Arial"/>
              </a:rPr>
              <a:t>effici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9144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The institution to be buil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468360" y="1413000"/>
            <a:ext cx="7643880" cy="459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Current statu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9" descr="ANd9GcTlyLUDG4pfOTFuJIIJsITLvdkakjonoFr34ICiTzkWhtES1vbgR-R1oy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476360" y="2421000"/>
            <a:ext cx="2013120" cy="30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3"/>
          <p:cNvSpPr/>
          <p:nvPr/>
        </p:nvSpPr>
        <p:spPr>
          <a:xfrm>
            <a:off x="9144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The institution to be buil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468360" y="1413000"/>
            <a:ext cx="7643880" cy="459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7" descr="ANd9GcRMPyazuqLJ-9OEPW2pBNjczJ9lJXZYNWZeYYzmSAJV7j1DSzBTCdLnCbY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8000" y="1484280"/>
            <a:ext cx="3095640" cy="23320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1" descr="ANd9GcT2LwXAKrkU_L2Ziz90eVzUit5Pf8hF0R9Kyb1faNmlokRiZMGUZaVW9SMq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556000" y="2565360"/>
            <a:ext cx="3095640" cy="23320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3" descr="ANd9GcSt391v8_blZzy0O3OILNRFsjxGQnk-N5OCDboa3Z2yqfchj8LX-AAEQyI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003640" y="4149720"/>
            <a:ext cx="3024360" cy="22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468360" y="1413000"/>
            <a:ext cx="7643880" cy="459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Get familiar with the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Organisational ch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Budget, infra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Regional, local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Competen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Cooperation and competition with other instit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6"/>
          <p:cNvSpPr/>
          <p:nvPr/>
        </p:nvSpPr>
        <p:spPr>
          <a:xfrm>
            <a:off x="9144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The institution to be buil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16" descr="ANd9GcS5jSr8Mmf2djH4gjpqj7GKOMPg8vg7Vmit61K1dreCMhXUn2AGXXaZ5-RQ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724360" y="1484280"/>
            <a:ext cx="2880000" cy="16891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7" descr=""/>
          <p:cNvPicPr/>
          <p:nvPr/>
        </p:nvPicPr>
        <p:blipFill>
          <a:blip r:embed="rId3"/>
          <a:stretch/>
        </p:blipFill>
        <p:spPr>
          <a:xfrm>
            <a:off x="5435640" y="4584600"/>
            <a:ext cx="3267000" cy="14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4"/>
          <p:cNvSpPr/>
          <p:nvPr/>
        </p:nvSpPr>
        <p:spPr>
          <a:xfrm>
            <a:off x="468360" y="1413000"/>
            <a:ext cx="7643880" cy="459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Get familiar with the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Who is wh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Salary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Job secu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Behaviour to hierarch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6"/>
          <p:cNvSpPr/>
          <p:nvPr/>
        </p:nvSpPr>
        <p:spPr>
          <a:xfrm>
            <a:off x="9144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The institution to be buil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14" descr="ANd9GcRPQ21eZo3EwEHzqx8jjM5b6VBSQwYe1c5Ao_dNZNSYZM6fL_LlFNSsRF2U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867280" y="1585800"/>
            <a:ext cx="2808360" cy="21146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"/>
          <p:cNvPicPr/>
          <p:nvPr/>
        </p:nvPicPr>
        <p:blipFill>
          <a:blip r:embed="rId3"/>
          <a:stretch/>
        </p:blipFill>
        <p:spPr>
          <a:xfrm>
            <a:off x="5148360" y="3429000"/>
            <a:ext cx="324000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3"/>
          <p:cNvSpPr/>
          <p:nvPr/>
        </p:nvSpPr>
        <p:spPr>
          <a:xfrm>
            <a:off x="9144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Implementing a pro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4"/>
          <p:cNvSpPr/>
          <p:nvPr/>
        </p:nvSpPr>
        <p:spPr>
          <a:xfrm>
            <a:off x="250920" y="1557360"/>
            <a:ext cx="7643880" cy="41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324000" y="1700280"/>
            <a:ext cx="687708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99"/>
                </a:solidFill>
                <a:latin typeface="Arial"/>
              </a:rPr>
              <a:t>Communication</a:t>
            </a:r>
            <a:br>
              <a:rPr sz="4000"/>
            </a:br>
            <a:r>
              <a:rPr b="0" lang="en-GB" sz="4000" spc="-1" strike="noStrike">
                <a:solidFill>
                  <a:srgbClr val="333399"/>
                </a:solidFill>
                <a:latin typeface="Arial"/>
              </a:rPr>
              <a:t>- use of a web based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Arial"/>
              </a:rPr>
              <a:t>intranet/sharepoint</a:t>
            </a:r>
            <a:br>
              <a:rPr sz="4000"/>
            </a:br>
            <a:r>
              <a:rPr b="0" lang="en-GB" sz="4000" spc="-1" strike="noStrike">
                <a:solidFill>
                  <a:srgbClr val="333399"/>
                </a:solidFill>
                <a:latin typeface="Arial"/>
              </a:rPr>
              <a:t>- web page of the projec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11" descr="ANd9GcSbD4mY2NSPELJzEx5kzut6teAMwB8A6syXOEVNk9eSv-7RWtAX8NWtbKU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867280" y="2060640"/>
            <a:ext cx="2482920" cy="16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3"/>
          <p:cNvSpPr/>
          <p:nvPr/>
        </p:nvSpPr>
        <p:spPr>
          <a:xfrm>
            <a:off x="9144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Implementing a pro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250920" y="1557360"/>
            <a:ext cx="7643880" cy="41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5"/>
          <p:cNvSpPr/>
          <p:nvPr/>
        </p:nvSpPr>
        <p:spPr>
          <a:xfrm>
            <a:off x="684360" y="1916280"/>
            <a:ext cx="687708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99"/>
                </a:solidFill>
                <a:latin typeface="Arial"/>
              </a:rPr>
              <a:t>Working groups</a:t>
            </a:r>
            <a:br>
              <a:rPr sz="4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- setting up of rules</a:t>
            </a:r>
            <a:br>
              <a:rPr sz="3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- regular meetings</a:t>
            </a:r>
            <a:br>
              <a:rPr sz="3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- BC official as leader</a:t>
            </a:r>
            <a:br>
              <a:rPr sz="3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- discussing the progress</a:t>
            </a:r>
            <a:br>
              <a:rPr sz="3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- based on an activity pla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8" descr="ANd9GcSUqaFSiCUsV4xWX3rnfHZjEALjX0htLppRBBQbRUuXKOtyosLVUwUOhP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940360" y="3068640"/>
            <a:ext cx="2448000" cy="18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3"/>
          <p:cNvSpPr/>
          <p:nvPr/>
        </p:nvSpPr>
        <p:spPr>
          <a:xfrm>
            <a:off x="9144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Implementing a pro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4"/>
          <p:cNvSpPr/>
          <p:nvPr/>
        </p:nvSpPr>
        <p:spPr>
          <a:xfrm>
            <a:off x="250920" y="1557360"/>
            <a:ext cx="7643880" cy="41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5"/>
          <p:cNvSpPr/>
          <p:nvPr/>
        </p:nvSpPr>
        <p:spPr>
          <a:xfrm>
            <a:off x="684360" y="1916280"/>
            <a:ext cx="687708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99"/>
                </a:solidFill>
                <a:latin typeface="Arial"/>
              </a:rPr>
              <a:t>Management meetings</a:t>
            </a:r>
            <a:br>
              <a:rPr sz="4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- directors, head of departments </a:t>
            </a:r>
            <a:br>
              <a:rPr sz="3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- BC project leader</a:t>
            </a:r>
            <a:br>
              <a:rPr sz="3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- regularly </a:t>
            </a:r>
            <a:br>
              <a:rPr sz="3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- discussing the progress</a:t>
            </a:r>
            <a:br>
              <a:rPr sz="3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- based on an activity pla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12" descr="ANd9GcSd-ElsDzqYgnRIt7u_sxMpZAgm9fsVEshz1K0xMZd7tpxqFydas8I11Za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84720" y="3284640"/>
            <a:ext cx="1860840" cy="18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3"/>
          <p:cNvSpPr/>
          <p:nvPr/>
        </p:nvSpPr>
        <p:spPr>
          <a:xfrm>
            <a:off x="9144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Implementing a pro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4"/>
          <p:cNvSpPr/>
          <p:nvPr/>
        </p:nvSpPr>
        <p:spPr>
          <a:xfrm>
            <a:off x="250920" y="1557360"/>
            <a:ext cx="7643880" cy="41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5"/>
          <p:cNvSpPr/>
          <p:nvPr/>
        </p:nvSpPr>
        <p:spPr>
          <a:xfrm>
            <a:off x="684360" y="1916280"/>
            <a:ext cx="687708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99"/>
                </a:solidFill>
                <a:latin typeface="Arial"/>
              </a:rPr>
              <a:t>Activity plans </a:t>
            </a:r>
            <a:br>
              <a:rPr sz="4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- what needs to be done</a:t>
            </a:r>
            <a:br>
              <a:rPr sz="3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- by whom</a:t>
            </a:r>
            <a:br>
              <a:rPr sz="3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- until when</a:t>
            </a:r>
            <a:br>
              <a:rPr sz="3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- remarks</a:t>
            </a:r>
            <a:br>
              <a:rPr sz="3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- follow up of the benchmarks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8" descr="ANd9GcQRmUU1AHTTCLQORitveO9tWk7P4bjxpDELOKcl5zdZopDM5Dfs06okDFD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580000" y="1844640"/>
            <a:ext cx="2664000" cy="20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4683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My experi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"/>
          <p:cNvPicPr/>
          <p:nvPr/>
        </p:nvPicPr>
        <p:blipFill>
          <a:blip r:embed="rId1"/>
          <a:stretch/>
        </p:blipFill>
        <p:spPr>
          <a:xfrm>
            <a:off x="4429080" y="3716280"/>
            <a:ext cx="4498920" cy="253692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5"/>
          <p:cNvSpPr/>
          <p:nvPr/>
        </p:nvSpPr>
        <p:spPr>
          <a:xfrm>
            <a:off x="468360" y="1844640"/>
            <a:ext cx="7643880" cy="41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spcBef>
                <a:spcPts val="7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Twinning project manager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2000-2004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7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RTA Romani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2004-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7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Project Leader Romani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2008 - 2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7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Mid-term expert Croat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2010-20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7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Since 2011 TAIEX Team lea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3"/>
          <p:cNvSpPr/>
          <p:nvPr/>
        </p:nvSpPr>
        <p:spPr>
          <a:xfrm>
            <a:off x="9144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Implementing a pro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250920" y="1557360"/>
            <a:ext cx="7643880" cy="41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5"/>
          <p:cNvSpPr/>
          <p:nvPr/>
        </p:nvSpPr>
        <p:spPr>
          <a:xfrm>
            <a:off x="250920" y="2349360"/>
            <a:ext cx="687708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99"/>
                </a:solidFill>
                <a:latin typeface="Arial"/>
              </a:rPr>
              <a:t>Recommendation papers </a:t>
            </a:r>
            <a:br>
              <a:rPr sz="4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- results of discussions</a:t>
            </a:r>
            <a:br>
              <a:rPr sz="3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- recommendations</a:t>
            </a:r>
            <a:br>
              <a:rPr sz="3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- specific warnings</a:t>
            </a:r>
            <a:br>
              <a:rPr sz="3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- short notes (1-2 pages)</a:t>
            </a:r>
            <a:br>
              <a:rPr sz="3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- to be circulated to the beneficiaries</a:t>
            </a:r>
            <a:br>
              <a:rPr sz="3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- reminder for yourself</a:t>
            </a:r>
            <a:br>
              <a:rPr sz="3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- informal character 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6" descr="ANd9GcQJPCSAOFr0v8-NAuuwo2aD4NLwyYIrug93uYXpAKDNOBoTA8qKrTEOplSm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443640" y="2214720"/>
            <a:ext cx="2581200" cy="194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9144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Implementing a pro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4"/>
          <p:cNvSpPr/>
          <p:nvPr/>
        </p:nvSpPr>
        <p:spPr>
          <a:xfrm>
            <a:off x="250920" y="1557360"/>
            <a:ext cx="7643880" cy="41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5"/>
          <p:cNvSpPr/>
          <p:nvPr/>
        </p:nvSpPr>
        <p:spPr>
          <a:xfrm>
            <a:off x="250920" y="2708280"/>
            <a:ext cx="828180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99"/>
                </a:solidFill>
                <a:latin typeface="Arial"/>
              </a:rPr>
              <a:t>Managing the experts </a:t>
            </a:r>
            <a:br>
              <a:rPr sz="4000"/>
            </a:br>
            <a:r>
              <a:rPr b="0" lang="en-GB" sz="2600" spc="-1" strike="noStrike">
                <a:solidFill>
                  <a:srgbClr val="333399"/>
                </a:solidFill>
                <a:latin typeface="Arial"/>
              </a:rPr>
              <a:t>- input depends on availability</a:t>
            </a:r>
            <a:br>
              <a:rPr sz="2600"/>
            </a:br>
            <a:r>
              <a:rPr b="0" lang="en-GB" sz="2600" spc="-1" strike="noStrike">
                <a:solidFill>
                  <a:srgbClr val="333399"/>
                </a:solidFill>
                <a:latin typeface="Arial"/>
              </a:rPr>
              <a:t>- understanding the context</a:t>
            </a:r>
            <a:br>
              <a:rPr sz="2600"/>
            </a:br>
            <a:r>
              <a:rPr b="0" lang="en-GB" sz="2600" spc="-1" strike="noStrike">
                <a:solidFill>
                  <a:srgbClr val="333399"/>
                </a:solidFill>
                <a:latin typeface="Arial"/>
              </a:rPr>
              <a:t>- no need to separate by MS</a:t>
            </a:r>
            <a:br>
              <a:rPr sz="2600"/>
            </a:br>
            <a:r>
              <a:rPr b="0" lang="en-GB" sz="2600" spc="-1" strike="noStrike">
                <a:solidFill>
                  <a:srgbClr val="333399"/>
                </a:solidFill>
                <a:latin typeface="Arial"/>
              </a:rPr>
              <a:t>- RTA shall be the bridge</a:t>
            </a:r>
            <a:br>
              <a:rPr sz="2600"/>
            </a:br>
            <a:r>
              <a:rPr b="0" lang="en-GB" sz="2600" spc="-1" strike="noStrike">
                <a:solidFill>
                  <a:srgbClr val="333399"/>
                </a:solidFill>
                <a:latin typeface="Arial"/>
              </a:rPr>
              <a:t>- prepare objectives and agenda of missions</a:t>
            </a:r>
            <a:br>
              <a:rPr sz="2600"/>
            </a:br>
            <a:r>
              <a:rPr b="0" lang="en-GB" sz="2600" spc="-1" strike="noStrike">
                <a:solidFill>
                  <a:srgbClr val="333399"/>
                </a:solidFill>
                <a:latin typeface="Arial"/>
              </a:rPr>
              <a:t>- don’t waste expert days </a:t>
            </a:r>
            <a:br>
              <a:rPr sz="2600"/>
            </a:br>
            <a:r>
              <a:rPr b="0" lang="en-GB" sz="2600" spc="-1" strike="noStrike">
                <a:solidFill>
                  <a:srgbClr val="333399"/>
                </a:solidFill>
                <a:latin typeface="Arial"/>
              </a:rPr>
              <a:t>- allow the beneficiaries to evaluate the experts</a:t>
            </a:r>
            <a:br>
              <a:rPr sz="3000"/>
            </a:br>
            <a:r>
              <a:rPr b="1" lang="en-GB" sz="3000" spc="-1" strike="noStrike">
                <a:solidFill>
                  <a:srgbClr val="333399"/>
                </a:solidFill>
                <a:latin typeface="Arial"/>
              </a:rPr>
              <a:t>  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12" descr="ANd9GcRKXZvEcwFMaG_vCLZ7fR5xFdlP0o0WHARlFc7F0KCeohLQJsnzVJhKrq3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227640" y="1844640"/>
            <a:ext cx="2652840" cy="19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3"/>
          <p:cNvSpPr/>
          <p:nvPr/>
        </p:nvSpPr>
        <p:spPr>
          <a:xfrm>
            <a:off x="11160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Implementing a pro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4"/>
          <p:cNvSpPr/>
          <p:nvPr/>
        </p:nvSpPr>
        <p:spPr>
          <a:xfrm>
            <a:off x="250920" y="1557360"/>
            <a:ext cx="7643880" cy="41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5"/>
          <p:cNvSpPr/>
          <p:nvPr/>
        </p:nvSpPr>
        <p:spPr>
          <a:xfrm>
            <a:off x="250920" y="2133720"/>
            <a:ext cx="6877080" cy="35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99"/>
                </a:solidFill>
                <a:latin typeface="Arial"/>
              </a:rPr>
              <a:t>Support the needs </a:t>
            </a:r>
            <a:br>
              <a:rPr sz="4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- output orientation</a:t>
            </a:r>
            <a:br>
              <a:rPr sz="3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- RTA shall provide additional input</a:t>
            </a:r>
            <a:br>
              <a:rPr sz="3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- help the partners to produce</a:t>
            </a:r>
            <a:br>
              <a:rPr sz="3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- develop plan B’s</a:t>
            </a:r>
            <a:br>
              <a:rPr sz="3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- lower your expectation</a:t>
            </a:r>
            <a:br>
              <a:rPr sz="3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- be realistic but optimistic 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8" descr="ANd9GcTxTjONq1iek3U1JGYNK-6F-hOkATB9-QdGt3a6wiwFUZtgWQS_wNXOj8y_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020000" y="2637000"/>
            <a:ext cx="184140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3"/>
          <p:cNvSpPr/>
          <p:nvPr/>
        </p:nvSpPr>
        <p:spPr>
          <a:xfrm>
            <a:off x="11160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Finalisation of the pro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4"/>
          <p:cNvSpPr/>
          <p:nvPr/>
        </p:nvSpPr>
        <p:spPr>
          <a:xfrm>
            <a:off x="250920" y="1557360"/>
            <a:ext cx="7643880" cy="41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5"/>
          <p:cNvSpPr/>
          <p:nvPr/>
        </p:nvSpPr>
        <p:spPr>
          <a:xfrm>
            <a:off x="250920" y="1700280"/>
            <a:ext cx="6877080" cy="39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Final repor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Focus on results/achievemen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Preferably final quarterly report plus a final repor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Recommenda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Thank your partn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3" descr=""/>
          <p:cNvPicPr/>
          <p:nvPr/>
        </p:nvPicPr>
        <p:blipFill>
          <a:blip r:embed="rId1"/>
          <a:stretch/>
        </p:blipFill>
        <p:spPr>
          <a:xfrm>
            <a:off x="5651640" y="4022640"/>
            <a:ext cx="3146400" cy="17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3"/>
          <p:cNvSpPr/>
          <p:nvPr/>
        </p:nvSpPr>
        <p:spPr>
          <a:xfrm>
            <a:off x="11160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Finalisation of the pro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4"/>
          <p:cNvSpPr/>
          <p:nvPr/>
        </p:nvSpPr>
        <p:spPr>
          <a:xfrm>
            <a:off x="250920" y="1557360"/>
            <a:ext cx="7643880" cy="41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5"/>
          <p:cNvSpPr/>
          <p:nvPr/>
        </p:nvSpPr>
        <p:spPr>
          <a:xfrm>
            <a:off x="684360" y="1989000"/>
            <a:ext cx="8137440" cy="39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Networking and follow u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Ensure that all contact details are availab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Keep outputs of the projec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Continue your support so far possib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Keep in tou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4" descr=""/>
          <p:cNvPicPr/>
          <p:nvPr/>
        </p:nvPicPr>
        <p:blipFill>
          <a:blip r:embed="rId1"/>
          <a:stretch/>
        </p:blipFill>
        <p:spPr>
          <a:xfrm>
            <a:off x="5770440" y="4365720"/>
            <a:ext cx="2619360" cy="17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11" descr=""/>
          <p:cNvPicPr/>
          <p:nvPr/>
        </p:nvPicPr>
        <p:blipFill>
          <a:blip r:embed="rId1"/>
          <a:stretch/>
        </p:blipFill>
        <p:spPr>
          <a:xfrm>
            <a:off x="6910560" y="4508640"/>
            <a:ext cx="2143080" cy="2143080"/>
          </a:xfrm>
          <a:prstGeom prst="rect">
            <a:avLst/>
          </a:prstGeom>
          <a:ln w="0">
            <a:noFill/>
          </a:ln>
        </p:spPr>
      </p:pic>
      <p:sp>
        <p:nvSpPr>
          <p:cNvPr id="162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3"/>
          <p:cNvSpPr/>
          <p:nvPr/>
        </p:nvSpPr>
        <p:spPr>
          <a:xfrm>
            <a:off x="11160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TAIE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4"/>
          <p:cNvSpPr/>
          <p:nvPr/>
        </p:nvSpPr>
        <p:spPr>
          <a:xfrm>
            <a:off x="250920" y="1557360"/>
            <a:ext cx="7643880" cy="41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5"/>
          <p:cNvSpPr/>
          <p:nvPr/>
        </p:nvSpPr>
        <p:spPr>
          <a:xfrm>
            <a:off x="176040" y="2133720"/>
            <a:ext cx="8282160" cy="39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1"/>
          <p:cNvSpPr/>
          <p:nvPr/>
        </p:nvSpPr>
        <p:spPr>
          <a:xfrm>
            <a:off x="176040" y="1917720"/>
            <a:ext cx="8359920" cy="36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TAIEX characteris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TAIEX is the little brother of Twin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Short term assistance by EU MS public offic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Workshops, expert missions and study visi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Centrally manag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Very flexible instrument driven by dem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Logistics supported by a service provi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9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3"/>
          <p:cNvSpPr/>
          <p:nvPr/>
        </p:nvSpPr>
        <p:spPr>
          <a:xfrm>
            <a:off x="11160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News on TAIE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4"/>
          <p:cNvSpPr/>
          <p:nvPr/>
        </p:nvSpPr>
        <p:spPr>
          <a:xfrm>
            <a:off x="250920" y="1557360"/>
            <a:ext cx="7643880" cy="41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5"/>
          <p:cNvSpPr/>
          <p:nvPr/>
        </p:nvSpPr>
        <p:spPr>
          <a:xfrm>
            <a:off x="176040" y="2133720"/>
            <a:ext cx="8282160" cy="39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1"/>
          <p:cNvSpPr/>
          <p:nvPr/>
        </p:nvSpPr>
        <p:spPr>
          <a:xfrm>
            <a:off x="460440" y="1444680"/>
            <a:ext cx="8359560" cy="48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buClr>
                <a:srgbClr val="333399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TAIEX between EU Member State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Peer to peer EU MS cooper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Regional policy and transpor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2)Partnership Instrument (PI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000" spc="-1" strike="noStrike">
                <a:solidFill>
                  <a:srgbClr val="333399"/>
                </a:solidFill>
                <a:latin typeface="Arial"/>
              </a:rPr>
              <a:t>Canada, India, Brazil, Korea first reques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000" spc="-1" strike="noStrike">
                <a:solidFill>
                  <a:srgbClr val="333399"/>
                </a:solidFill>
                <a:latin typeface="Arial"/>
              </a:rPr>
              <a:t>Funded by the EU and requested by EU Delega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https://myintracomm.ec.europa.eu/dg/fpi/whoweare/about_fpi/Pages/Index.asp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3"/>
          <p:cNvSpPr/>
          <p:nvPr/>
        </p:nvSpPr>
        <p:spPr>
          <a:xfrm>
            <a:off x="11160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TAIEX EXPERT DATAB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4"/>
          <p:cNvSpPr/>
          <p:nvPr/>
        </p:nvSpPr>
        <p:spPr>
          <a:xfrm>
            <a:off x="250920" y="1557360"/>
            <a:ext cx="7643880" cy="41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5"/>
          <p:cNvSpPr/>
          <p:nvPr/>
        </p:nvSpPr>
        <p:spPr>
          <a:xfrm>
            <a:off x="176040" y="2133720"/>
            <a:ext cx="8282160" cy="39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Encourage all experts to register as a TAIEX exper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Registration is simple using an online tool (renewed soo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Registration does not mean any commit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3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867280" y="4932360"/>
            <a:ext cx="2895840" cy="15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3"/>
          <p:cNvSpPr/>
          <p:nvPr/>
        </p:nvSpPr>
        <p:spPr>
          <a:xfrm>
            <a:off x="11160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TAIEX EXPERT DATAB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4"/>
          <p:cNvSpPr/>
          <p:nvPr/>
        </p:nvSpPr>
        <p:spPr>
          <a:xfrm>
            <a:off x="250920" y="1557360"/>
            <a:ext cx="7643880" cy="41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5"/>
          <p:cNvSpPr/>
          <p:nvPr/>
        </p:nvSpPr>
        <p:spPr>
          <a:xfrm>
            <a:off x="182520" y="1660680"/>
            <a:ext cx="8282160" cy="39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Experts may be contacted by the TAIEX uni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Or have the possibility to show interest in a specific activity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Conditions (per diems, compensation) similar to Twinn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Logistics centrally manag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3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867280" y="4932360"/>
            <a:ext cx="2895840" cy="15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3"/>
          <p:cNvSpPr/>
          <p:nvPr/>
        </p:nvSpPr>
        <p:spPr>
          <a:xfrm>
            <a:off x="468360" y="1989000"/>
            <a:ext cx="822960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333399"/>
                </a:solidFill>
                <a:latin typeface="Arial"/>
              </a:rPr>
              <a:t>THANK YOU FOR YOUR ATTENTION, GOOD LUCK IN YOUR NEW ENVIRONMENT </a:t>
            </a:r>
            <a:br>
              <a:rPr sz="3000"/>
            </a:br>
            <a:r>
              <a:rPr b="1" lang="en-GB" sz="3000" spc="-1" strike="noStrike">
                <a:solidFill>
                  <a:srgbClr val="333399"/>
                </a:solidFill>
                <a:latin typeface="Arial"/>
              </a:rPr>
              <a:t>AND MANY SUCCESS IN BUILDING YOUR INSTITUTION!!!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8" descr="ANd9GcRC8joxvSQ9Mzt3oXATukt5Cbo1CFdL3XbMY34UCYdRlcuY96kiWkc1BZkDbw"/>
          <p:cNvPicPr/>
          <p:nvPr/>
        </p:nvPicPr>
        <p:blipFill>
          <a:blip r:embed="rId1"/>
          <a:stretch/>
        </p:blipFill>
        <p:spPr>
          <a:xfrm>
            <a:off x="395280" y="3500280"/>
            <a:ext cx="2448000" cy="2448000"/>
          </a:xfrm>
          <a:prstGeom prst="rect">
            <a:avLst/>
          </a:prstGeom>
          <a:ln w="0">
            <a:noFill/>
          </a:ln>
        </p:spPr>
      </p:pic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1332000" y="4797000"/>
            <a:ext cx="64008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</a:rPr>
              <a:t>Dieter Goert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</a:rPr>
              <a:t>TAIEX team leader agriculture  </a:t>
            </a:r>
            <a:br>
              <a:rPr sz="1400"/>
            </a:br>
            <a:r>
              <a:rPr b="1" lang="en-GB" sz="1400" spc="-1" strike="noStrike">
                <a:solidFill>
                  <a:srgbClr val="333399"/>
                </a:solidFill>
                <a:latin typeface="Arial"/>
              </a:rPr>
              <a:t>Institution Building Unit, TAIEX</a:t>
            </a:r>
            <a:br>
              <a:rPr sz="1400"/>
            </a:br>
            <a:r>
              <a:rPr b="1" lang="en-GB" sz="1400" spc="-1" strike="noStrike">
                <a:solidFill>
                  <a:srgbClr val="333399"/>
                </a:solidFill>
                <a:latin typeface="Arial"/>
              </a:rPr>
              <a:t> DG NEA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</a:rPr>
              <a:t>+32 29 63626 </a:t>
            </a:r>
            <a:r>
              <a:rPr b="1" lang="fr-BE" sz="1400" spc="-1" strike="noStrike">
                <a:solidFill>
                  <a:srgbClr val="333399"/>
                </a:solidFill>
                <a:latin typeface="Arial"/>
              </a:rPr>
              <a:t>dieter.goertz@ec.europa.eu</a:t>
            </a:r>
            <a:r>
              <a:rPr b="1" lang="fr-BE" sz="1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14" descr="ANd9GcSQ1QeSzRHre9N0SOn2kVbw7fSjwI5WtccVPV6tD7-nPLuBWphB-220hMnJ"/>
          <p:cNvPicPr/>
          <p:nvPr/>
        </p:nvPicPr>
        <p:blipFill>
          <a:blip r:embed="rId2"/>
          <a:stretch/>
        </p:blipFill>
        <p:spPr>
          <a:xfrm>
            <a:off x="6372360" y="3860640"/>
            <a:ext cx="2447640" cy="18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8"/>
          <p:cNvSpPr/>
          <p:nvPr/>
        </p:nvSpPr>
        <p:spPr>
          <a:xfrm>
            <a:off x="4683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What comes nex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9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Starting a twinning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Implementing a twinning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commun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managing the expe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your special ro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3" descr="ANd9GcTAvwktR3RKbyeQt9vOqaz09bZ5xddwvXGupBbAUOLqZl-uOPZ_Bvnxtw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56360" y="2492280"/>
            <a:ext cx="2262240" cy="22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4683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The st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4"/>
          <p:cNvSpPr/>
          <p:nvPr/>
        </p:nvSpPr>
        <p:spPr>
          <a:xfrm>
            <a:off x="468360" y="1844640"/>
            <a:ext cx="7643880" cy="41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11" descr="foto2_profil"/>
          <p:cNvPicPr/>
          <p:nvPr/>
        </p:nvPicPr>
        <p:blipFill>
          <a:blip r:embed="rId1"/>
          <a:stretch/>
        </p:blipFill>
        <p:spPr>
          <a:xfrm>
            <a:off x="4643280" y="2852640"/>
            <a:ext cx="3961080" cy="2610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5" descr="ANd9GcS5GAylKLGU63wqBJTUpCyB3eqIKUUEQETJNdMjDu_MTarCk9PoRFw5bS8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68360" y="2852640"/>
            <a:ext cx="4176720" cy="259236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16"/>
          <p:cNvSpPr/>
          <p:nvPr/>
        </p:nvSpPr>
        <p:spPr>
          <a:xfrm>
            <a:off x="395280" y="1628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Your expectatio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4"/>
          <p:cNvSpPr/>
          <p:nvPr/>
        </p:nvSpPr>
        <p:spPr>
          <a:xfrm>
            <a:off x="468360" y="1844640"/>
            <a:ext cx="7643880" cy="41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8" descr="Small-Office-Pictures-5"/>
          <p:cNvPicPr/>
          <p:nvPr/>
        </p:nvPicPr>
        <p:blipFill>
          <a:blip r:embed="rId1"/>
          <a:stretch/>
        </p:blipFill>
        <p:spPr>
          <a:xfrm>
            <a:off x="3635280" y="1700280"/>
            <a:ext cx="2895840" cy="42926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0" descr="madrid07a0026"/>
          <p:cNvPicPr/>
          <p:nvPr/>
        </p:nvPicPr>
        <p:blipFill>
          <a:blip r:embed="rId2"/>
          <a:stretch/>
        </p:blipFill>
        <p:spPr>
          <a:xfrm>
            <a:off x="395280" y="1700280"/>
            <a:ext cx="3241800" cy="4319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11"/>
          <p:cNvSpPr/>
          <p:nvPr/>
        </p:nvSpPr>
        <p:spPr>
          <a:xfrm>
            <a:off x="2050920" y="0"/>
            <a:ext cx="3529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The realit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3"/>
          <p:cNvSpPr/>
          <p:nvPr/>
        </p:nvSpPr>
        <p:spPr>
          <a:xfrm>
            <a:off x="4683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Assista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7" descr="Bergsteigen im Allgäu"/>
          <p:cNvPicPr/>
          <p:nvPr/>
        </p:nvPicPr>
        <p:blipFill>
          <a:blip r:embed="rId1"/>
          <a:stretch/>
        </p:blipFill>
        <p:spPr>
          <a:xfrm>
            <a:off x="611280" y="1989000"/>
            <a:ext cx="8191440" cy="309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"/>
          <p:cNvSpPr/>
          <p:nvPr/>
        </p:nvSpPr>
        <p:spPr>
          <a:xfrm>
            <a:off x="4683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Assista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4"/>
          <p:cNvSpPr/>
          <p:nvPr/>
        </p:nvSpPr>
        <p:spPr>
          <a:xfrm>
            <a:off x="826920" y="1197000"/>
            <a:ext cx="764388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spcBef>
                <a:spcPts val="7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Early sel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7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Cooperative behaviour is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7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Be careful with recommend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7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Translation vs. interpre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7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Share of work between assist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7" descr="Bergsteigen im Allgäu"/>
          <p:cNvPicPr/>
          <p:nvPr/>
        </p:nvPicPr>
        <p:blipFill>
          <a:blip r:embed="rId1"/>
          <a:stretch/>
        </p:blipFill>
        <p:spPr>
          <a:xfrm>
            <a:off x="755640" y="4076640"/>
            <a:ext cx="5904000" cy="22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4683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Your environ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6" descr="whereamiheader-sms-070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87280" y="1916280"/>
            <a:ext cx="6553440" cy="36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3"/>
          <p:cNvSpPr/>
          <p:nvPr/>
        </p:nvSpPr>
        <p:spPr>
          <a:xfrm>
            <a:off x="4683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Your environ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4"/>
          <p:cNvSpPr/>
          <p:nvPr/>
        </p:nvSpPr>
        <p:spPr>
          <a:xfrm>
            <a:off x="468360" y="1413000"/>
            <a:ext cx="7643880" cy="459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spcBef>
                <a:spcPts val="7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The country - history, cul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7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Gover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7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Parlia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7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Just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7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Med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7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Civil socie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7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Economy, Tr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7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Social secu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3" descr=""/>
          <p:cNvPicPr/>
          <p:nvPr/>
        </p:nvPicPr>
        <p:blipFill>
          <a:blip r:embed="rId1"/>
          <a:stretch/>
        </p:blipFill>
        <p:spPr>
          <a:xfrm>
            <a:off x="6659640" y="1341360"/>
            <a:ext cx="2100240" cy="13924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"/>
          <p:cNvPicPr/>
          <p:nvPr/>
        </p:nvPicPr>
        <p:blipFill>
          <a:blip r:embed="rId2"/>
          <a:stretch/>
        </p:blipFill>
        <p:spPr>
          <a:xfrm>
            <a:off x="5595840" y="2276640"/>
            <a:ext cx="2129040" cy="1380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" descr=""/>
          <p:cNvPicPr/>
          <p:nvPr/>
        </p:nvPicPr>
        <p:blipFill>
          <a:blip r:embed="rId3"/>
          <a:stretch/>
        </p:blipFill>
        <p:spPr>
          <a:xfrm>
            <a:off x="5148360" y="3141720"/>
            <a:ext cx="1960560" cy="13032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3" descr=""/>
          <p:cNvPicPr/>
          <p:nvPr/>
        </p:nvPicPr>
        <p:blipFill>
          <a:blip r:embed="rId4"/>
          <a:stretch/>
        </p:blipFill>
        <p:spPr>
          <a:xfrm>
            <a:off x="4294080" y="4076640"/>
            <a:ext cx="216396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1T16:23:06Z</dcterms:created>
  <dc:creator>Dieter Goertz</dc:creator>
  <dc:description/>
  <dc:language>en-US</dc:language>
  <cp:lastModifiedBy>SANTUCCIONE Lucia (DEVCO)</cp:lastModifiedBy>
  <cp:lastPrinted>2015-06-03T14:52:43Z</cp:lastPrinted>
  <dcterms:modified xsi:type="dcterms:W3CDTF">2015-10-07T15:27:31Z</dcterms:modified>
  <cp:revision>88</cp:revision>
  <dc:subject/>
  <dc:title>Institution building support in the field of agriculture and food safety in 2011</dc:title>
</cp:coreProperties>
</file>